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35A5-A157-4BFB-8D3F-87D3AF3B6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979C-D605-4737-B870-9630788E0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246A-DF7D-4EF5-8651-37C879ECC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E5F8-A64E-4B00-9C78-9C1732C8F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954A-2858-47F1-9F4B-A0DB005B4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FFE2-CC14-4E1A-A951-67AA95364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E131-C952-4E6E-B8DC-23054B03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DB83-F192-4A17-918D-54B6B5A0A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15B7-DCDE-4890-B664-113F33CE0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5280-8E20-41D5-BADD-5464D697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ADF3-30B9-42A3-BF82-92394174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B1EF-450B-40F6-A0ED-19BAD040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5668B-AC33-4272-8534-F929772631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ists and Fung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ti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eukaryotic one or many-celled organisms that live in moist environments.  Some are plant-like and others are animal-li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ists reproduce asex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t-like protists are calle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LGA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contain chlorophyll and make their own f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l-like protists are calle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TOZO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zoans are important food sources for many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ime molds and water molds are examples of fungus-like proti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ists are classified by how they mo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2971800"/>
            <a:ext cx="7543800" cy="35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g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gi are not sure how fungi are related to other organisms so they have their own kingd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are saprophytes (feed on dead stuff) and some are parasi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fungi are grown as food sources, some produce antibiotics (penicillin), others decompose and recycle materials; while others cause plant and animal dis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876312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17:26:53Z</dcterms:created>
  <dc:creator>Teacher</dc:creator>
  <dc:description/>
  <dc:language>en-US</dc:language>
  <cp:lastModifiedBy>Teacher</cp:lastModifiedBy>
  <dcterms:modified xsi:type="dcterms:W3CDTF">2008-09-04T17:29:12Z</dcterms:modified>
  <cp:revision>2</cp:revision>
  <dc:subject/>
  <dc:title>Protists and Fungi</dc:title>
</cp:coreProperties>
</file>